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CDE7-2CBD-4136-B1CC-6B394FD7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1F92-84F1-433A-8A04-754820D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343D-FF44-49B7-BBCB-A96CFA12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3466-0110-45BC-BD81-9728C21C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EFD0-0911-4C5A-8379-7A63F75F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A7C7-233B-4B9B-B8C8-A20F83B1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7B1-0343-40AA-BE49-A8B630C8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7DA-B439-46CD-B921-8DDCBE5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0A05-0DD2-4C70-B0D4-2E2C2533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3A8-0721-47BB-BF73-79FACBA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50A6-198B-44F0-96F9-939A28C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09E3-8224-487E-BD15-D7355D0E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24C-1601-48AA-8B2B-CCAF749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0C9-2EAE-4B42-98CA-4F77120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239-4F72-48C8-818D-A0C289E1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37D-DABC-4857-BFD0-A2FEA93A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73B-C6F4-4860-B601-387AE24A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8379-5F65-4DD8-A0C8-0C508D2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0FC7-5B97-4325-AAF2-687B502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B71D-EC31-4DE4-AB55-0B7C13EF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C608-7AD5-4EAF-A989-07DE7AB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0128-3AAD-4BF4-955E-AB4D87C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F4D3-BEA0-4066-967D-77457DC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68A3-4E34-4772-88A2-4F74CF2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6A2-C853-4A05-8DF6-2CB1B78059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495A-3534-410B-BD6E-EB1F9C5116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4220640"/>
            <a:ext cx="6019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ставитель: ученик 10 класса Гришин Н.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lip_image013"/>
          <p:cNvPicPr/>
          <p:nvPr/>
        </p:nvPicPr>
        <p:blipFill>
          <a:blip r:embed="rId1"/>
          <a:stretch/>
        </p:blipFill>
        <p:spPr>
          <a:xfrm>
            <a:off x="1258920" y="4724280"/>
            <a:ext cx="1428840" cy="133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lip_image015"/>
          <p:cNvPicPr/>
          <p:nvPr/>
        </p:nvPicPr>
        <p:blipFill>
          <a:blip r:embed="rId2"/>
          <a:stretch/>
        </p:blipFill>
        <p:spPr>
          <a:xfrm>
            <a:off x="7020000" y="515772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t-byu"/>
          <p:cNvPicPr/>
          <p:nvPr/>
        </p:nvPicPr>
        <p:blipFill>
          <a:blip r:embed="rId3"/>
          <a:stretch/>
        </p:blipFill>
        <p:spPr>
          <a:xfrm>
            <a:off x="4284720" y="530064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WordArt 9"/>
          <p:cNvSpPr txBox="1"/>
          <p:nvPr/>
        </p:nvSpPr>
        <p:spPr>
          <a:xfrm>
            <a:off x="2268360" y="2637000"/>
            <a:ext cx="66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сокрыто в замерзшей во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24000" y="1628640"/>
            <a:ext cx="561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растут из испарений воды. Снежные кристаллы образуются, когда испарения воды конденсируются непосредственно в лёд, что случается в облаках. Снежинки возникают вследствие роста кристаллов. Самая основная форма кристаллического снега – шестиугольная призма. Шестиугольная призма может быть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пластин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или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столб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, что зависит от скорости роста поверхностей.</a:t>
            </a: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Рисунок 8" descr="Разновидности призм в зависимости от их роста"/>
          <p:cNvPicPr/>
          <p:nvPr/>
        </p:nvPicPr>
        <p:blipFill>
          <a:blip r:embed="rId1"/>
          <a:stretch/>
        </p:blipFill>
        <p:spPr>
          <a:xfrm>
            <a:off x="5292720" y="2565360"/>
            <a:ext cx="37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WordArt 6"/>
          <p:cNvSpPr txBox="1"/>
          <p:nvPr/>
        </p:nvSpPr>
        <p:spPr>
          <a:xfrm>
            <a:off x="468360" y="907920"/>
            <a:ext cx="828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чего сделан лед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снежин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Плотная масса льда обычно поликристаллическая, т.е. состоит из множества отдельных кристаллов. Иногда эти кристаллы можно различить в тающем льду. Тогда видно, что лед состоит как бы из "карандашиков", сросшихся вместе: шестигранные столбики параллельны друг другу и стоят торчком к поверхности воды; эти "карандашики" и есть кристаллики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roldjye"/>
          <p:cNvPicPr/>
          <p:nvPr/>
        </p:nvPicPr>
        <p:blipFill>
          <a:blip r:embed="rId1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lip_image034"/>
          <p:cNvPicPr/>
          <p:nvPr/>
        </p:nvPicPr>
        <p:blipFill>
          <a:blip r:embed="rId2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Объект WordArt 7"/>
          <p:cNvSpPr txBox="1"/>
          <p:nvPr/>
        </p:nvSpPr>
        <p:spPr>
          <a:xfrm>
            <a:off x="1835280" y="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чего сделан ле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4" descr="roldjye"/>
          <p:cNvPicPr/>
          <p:nvPr/>
        </p:nvPicPr>
        <p:blipFill>
          <a:blip r:embed="rId3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lip_image034"/>
          <p:cNvPicPr/>
          <p:nvPr/>
        </p:nvPicPr>
        <p:blipFill>
          <a:blip r:embed="rId4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57120" y="259920"/>
            <a:ext cx="4430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Очень опасны для растений весенние или осенние заморозки. Температура почвы и воздуха падает ниже нуля, подпочвенные воды и соки растений замерзают, образуя иголочки кристалликов льда. Эти острые иголки рвут нежные ткани растений, листья сморщиваются, чернеют, стебли и корни разру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lip_image005"/>
          <p:cNvPicPr/>
          <p:nvPr/>
        </p:nvPicPr>
        <p:blipFill>
          <a:blip r:embed="rId1"/>
          <a:stretch/>
        </p:blipFill>
        <p:spPr>
          <a:xfrm>
            <a:off x="5508720" y="476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lip_image007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844280"/>
            <a:ext cx="453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В словаре Ожегова определение такое: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НЕЙ - тонкий снежный слой, образующийся благодаря испарениям на охлаждающейся поверхности в холодные ночи.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К и ПОЧЕМУ он образу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pimg_236_1085"/>
          <p:cNvPicPr/>
          <p:nvPr/>
        </p:nvPicPr>
        <p:blipFill>
          <a:blip r:embed="rId1"/>
          <a:stretch/>
        </p:blipFill>
        <p:spPr>
          <a:xfrm>
            <a:off x="4284720" y="333360"/>
            <a:ext cx="2158920" cy="1946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lip_image011"/>
          <p:cNvPicPr/>
          <p:nvPr/>
        </p:nvPicPr>
        <p:blipFill>
          <a:blip r:embed="rId2"/>
          <a:stretch/>
        </p:blipFill>
        <p:spPr>
          <a:xfrm>
            <a:off x="6588000" y="119700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lip_image0567"/>
          <p:cNvPicPr/>
          <p:nvPr/>
        </p:nvPicPr>
        <p:blipFill>
          <a:blip r:embed="rId3"/>
          <a:srcRect l="0" t="656" r="0" b="656"/>
          <a:stretch/>
        </p:blipFill>
        <p:spPr>
          <a:xfrm>
            <a:off x="5796000" y="4221000"/>
            <a:ext cx="2208240" cy="2459160"/>
          </a:xfrm>
          <a:prstGeom prst="rect">
            <a:avLst/>
          </a:prstGeom>
          <a:ln w="0">
            <a:noFill/>
          </a:ln>
        </p:spPr>
      </p:pic>
      <p:sp>
        <p:nvSpPr>
          <p:cNvPr id="126" name="Объект WordArt 7"/>
          <p:cNvSpPr txBox="1"/>
          <p:nvPr/>
        </p:nvSpPr>
        <p:spPr>
          <a:xfrm>
            <a:off x="395280" y="620640"/>
            <a:ext cx="3514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что такое ине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3212640"/>
            <a:ext cx="8785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В жилом помещении в воздухе есть молекулы воды и любое окно в морозы будет холоднее стен. Влага из теплого воздуха попадает на холодное стекло и остается там в виде капелек воды, которые при сильных морозах превращаются в кристаллики льда. И вот, что еще интересно: иней никогда не образуется на тонких ветвистых предметах. А то, что осаждается на проводах, на ветках кустов и деревьев, называется - изморозь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pimg_234_1085"/>
          <p:cNvPicPr/>
          <p:nvPr/>
        </p:nvPicPr>
        <p:blipFill>
          <a:blip r:embed="rId1"/>
          <a:stretch/>
        </p:blipFill>
        <p:spPr>
          <a:xfrm>
            <a:off x="5364000" y="83664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pimg_235_1085"/>
          <p:cNvPicPr/>
          <p:nvPr/>
        </p:nvPicPr>
        <p:blipFill>
          <a:blip r:embed="rId2"/>
          <a:stretch/>
        </p:blipFill>
        <p:spPr>
          <a:xfrm>
            <a:off x="1258920" y="62064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75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92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- это кристаллы льда, точнее сростки простейших кристалликов льда - иголочек и пластинок. Снежинки образуются из перенасыщенного водяного пара. Центрами кристаллизации являются взвешенные в воздухе пылинки.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ъект WordArt 5"/>
          <p:cNvSpPr txBox="1"/>
          <p:nvPr/>
        </p:nvSpPr>
        <p:spPr>
          <a:xfrm>
            <a:off x="1619280" y="33336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снежинка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Объект WordArt 7"/>
          <p:cNvSpPr txBox="1"/>
          <p:nvPr/>
        </p:nvSpPr>
        <p:spPr>
          <a:xfrm>
            <a:off x="1258920" y="364500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Поле 8"/>
          <p:cNvSpPr/>
          <p:nvPr/>
        </p:nvSpPr>
        <p:spPr>
          <a:xfrm>
            <a:off x="755640" y="4581360"/>
            <a:ext cx="81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ногим, наверное, известно, что встретить в природе пару идентичных снежинок невозможно, но они могут быть очень похож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роение молекулы воды представляет собой тетраэдр (шестиугольник). Между лучами кристаллов возможны лишь углы 60 и 120 градусов. Впоследствии на вершинах этого шестиугольника оседают новые молекулы, образуя тем самым причудливые формы снежинок. В процессе перемещения в атмосфере, а также под воздействием перепада температур кристаллы могут частично подтаивать и снова замерзать, образуя смешанные формы узоров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WordArt 4"/>
          <p:cNvSpPr txBox="1"/>
          <p:nvPr/>
        </p:nvSpPr>
        <p:spPr>
          <a:xfrm>
            <a:off x="1476360" y="54936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инки,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ные кристаллы образуются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зо льд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ъект WordArt 4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Рисунок 5" descr="Кристаллическая структура льда"/>
          <p:cNvPicPr/>
          <p:nvPr/>
        </p:nvPicPr>
        <p:blipFill>
          <a:blip r:embed="rId1"/>
          <a:stretch/>
        </p:blipFill>
        <p:spPr>
          <a:xfrm>
            <a:off x="324000" y="2637000"/>
            <a:ext cx="254952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Поле 6"/>
          <p:cNvSpPr/>
          <p:nvPr/>
        </p:nvSpPr>
        <p:spPr>
          <a:xfrm>
            <a:off x="395280" y="4076640"/>
            <a:ext cx="806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руктура кристаллов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олекулы воды в кристалле льда формируют шестиугольную решётку. Красные шары – атомы кислорода. Серые палочки – атомы водорода. По два водорода на один кислород – Н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75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4:40:46Z</dcterms:created>
  <dc:creator>26091</dc:creator>
  <dc:description/>
  <dc:language>en-US</dc:language>
  <cp:lastModifiedBy>26091</cp:lastModifiedBy>
  <dcterms:modified xsi:type="dcterms:W3CDTF">2010-06-04T14:51:45Z</dcterms:modified>
  <cp:revision>58</cp:revision>
  <dc:subject/>
  <dc:title>Что сокрыто в замерзшей воде</dc:title>
</cp:coreProperties>
</file>